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9C7D-03A6-46DC-AC72-EE6C4B52A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AACB-8271-42B7-A40A-383D4705B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984-CC60-4EF7-876F-5D0C1785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BC1-43EA-437D-9F93-AD8744A2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6D9-CFC0-4F9D-A444-2BFA5EB3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7FD-F494-4F7D-8EAF-F0BA3C3B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3B04-E3DC-4FE5-8060-AA47A5BF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CA01-DD60-4D7B-B922-A8C534A2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A87B-B8EE-4963-B031-8FAC58BD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2C7E-230C-4776-B50E-C33B3037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0CB7-F231-431F-A394-78CD3BD3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825F-E6FE-4B84-BE09-9C245A52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8DF8-D49D-4CD9-9D51-D5B0631E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433-7129-4529-8BCF-8383341A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D2ED-E04E-4A4C-AEAD-B98E6EAC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9738-7F47-4E5C-8509-5F8C4E30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FA1E-7676-40C7-8CF8-78EC1A94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6BEB-099D-4BAB-91CD-908F369F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12DC-46E9-413B-9129-4A2A0262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82A-AA28-4406-9187-3ACD1054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019-DBF5-4CEB-9144-641ACE62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6B3-253E-4FC5-AF65-56D224A0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79C-D584-4F6B-A00F-4ACED886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927-0B95-4DA7-AFA4-E8BDD112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C33-C932-4D4D-9732-E6397BBF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CEE-D270-42C0-95F0-AAC0747C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5363-69BA-4382-B050-2DF796E61D6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C7B5-E8B9-46B3-B7B3-0BCE987A80D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Dissertation Proposal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4920" y="342864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John R. Slate, Ph.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DLD 639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42600" y="779400"/>
            <a:ext cx="91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http://education.tamuk.edu/kfjs002/DoctoralDissertationProgram/DissertationProposal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24/8/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9080" y="2285640"/>
            <a:ext cx="5257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esearch Question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(to be answered or investigated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y be quantitativ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y be qualitativ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y have both types presen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ust be answerable through data collection and analysi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search Hypothes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not null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 prefer having null first, followed by the research hypothesis for each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te that hypotheses are only relevant for quantitative research ques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gnificance of the Stud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relevance, need—may overlap with the statement of problem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respond to this as if somebody said about your study, “So, what?”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ssumption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postulate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will you have to assume to conduct your study? If survey questions, that respondents will answer truthfully, etc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9080" y="1904760"/>
            <a:ext cx="52578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imitations and Delimitations of the Stud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limitation is a factor that may affect the study but is not under your control such as a lack of generalizabil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9080" y="1981080"/>
            <a:ext cx="5257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delimitation is a factor that is under your control. You might choose to look only at teachers in a particular state or coun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efinition of Term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largely conceptual here-with citations; operational definitions may follow in Methodology Chapter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 a citation for each term you define. Define all jargon and unfamiliar terms. When in doubt, defin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tion of the Stud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outline remainder of the proposal in narrative form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ast section of Chapter I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VIEW OF THE LITERATU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organization of the chapter – overview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 like to have students tell the reader each subheading that will be discussed, followed by “A summary will conclude this section.”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VIEW OF THE LITERATU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9080" y="1981080"/>
            <a:ext cx="5257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istorical Background/Overview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overview of the theory and research literature)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79080" y="3657240"/>
            <a:ext cx="52578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ken from Dissertation Guidelines WORD document Dr. Stallone Brown’s websit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VIEW OF THE LITERATU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heory/research specific to the topic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sections/subsections should match questions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VIEW OF THE LITERATU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9080" y="2285640"/>
            <a:ext cx="5257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view of Literature Summar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what is known and unknown about the topic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VIEW OF THE LITERATU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tribution of the Stud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what this study will add to the field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VIEW OF THE LITERATU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79080" y="2133720"/>
            <a:ext cx="54262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iterature review is an intensive, extensive, and exhaustive search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mpirical research articles bes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rimary sources critical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istorical context importa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9080" y="2285640"/>
            <a:ext cx="5257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organization of the chapter – overview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search Question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restated her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ame exact wording as they appeared in Chapter I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9080" y="1981080"/>
            <a:ext cx="5257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ull Hypothes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needed for quantitative research questions)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 also like the research hypotheses to reappear he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9080" y="1981080"/>
            <a:ext cx="5257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search Methodolog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quantitative, qualitative, or mixed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asons why methodology selected is appropriate to address research questions in stud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search Design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e.g., correlational, comparative, descriptive, etc.—Explain your variables of analysis here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opulation and Sampl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Define very specifically the population AND sampl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ontents and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outline for the formal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Dissertation Proposa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follows. Not all of the sections outlined here may be appropriate for all dissertations. Consult with your chair if you have questions about whether or not to include a particular section in your work. *Generally (except for introductions, summaries, and literature review), proposals are written in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explaining what the researcher “will” do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9080" y="2133720"/>
            <a:ext cx="5257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nstrumentation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tests, measures, observations, scales, and questionnaire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cedur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Field, classroom or laboratory e.g., instructions to subjects or distribution of materials; data collection and recording—everything BEFORE analysis)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9080" y="1981080"/>
            <a:ext cx="5257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ata Analysi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statistical analysis or qualitative analysis explained in detail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9080" y="2209320"/>
            <a:ext cx="5257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liability and Validity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(here or as a subheading UNDER Instrumentation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9080" y="2285640"/>
            <a:ext cx="5257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ummary of Methodolog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ACK MAT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ferenc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must be in APA format)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ppendic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each Appendix has own title page; IRB in one appendix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ita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PA Referenc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9440" y="1981080"/>
            <a:ext cx="55022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ttp://citationmachine.net/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ample Proposal Defens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ttp://education.tamuk.edu/kfmns00/Main%20Page/PPP_Proposal-B_Sp%2006.ppt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ttp://education.tamuk.edu/kfmns00/Main%20Page/Dissertation%20Proposal%2010_04_06.pp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ample Proposal Defens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ttp://education.tamuk.edu/kfmns00/Main%20Page/music%20prop.pp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ttp://education.tamuk.edu/kfmns00/Main%20Page/The%20Impact%20of%20School%20Culture%20PPP%20July%2026.pp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ample Proposal Defens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ttp://education.tamuk.edu/kfmns00/Dissertation-Proposal-wang.pp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ttp://education.tamuk.edu/kfmns00/Main%20Page/Dissertation%20Proposal%204.6.06.pp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Verb Tens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Generally (except for introductions, summaries, and literature review), proposals are written in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future tens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, explaining what the researcher “will” do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RONT MAT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itle Pag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pproval Pag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bstract (maximum of 350 words; written in future tense-</a:t>
            </a: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optional for proposal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RONT MATTER (cont.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080" y="2209320"/>
            <a:ext cx="5257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ist of Tabl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ist of Figur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752120"/>
            <a:ext cx="5257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Introducing the topic of study—2 to 3 page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ere you set the stage for the reader to read furthe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atement of the Problem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basic difficulty - area of concern, felt need and goal to be achieved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ke your case here that this is a relevant issue – one that begs to be addresse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urpose of the Stud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goal oriented-emphasizing practical outcomes that “may” occur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y not be “So I can graduate.”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do you hope/anticipate being able to do with the results of your study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8:44:13Z</dcterms:created>
  <dc:creator>Dr John Slate</dc:creator>
  <dc:description/>
  <cp:keywords/>
  <dc:language>en-US</dc:language>
  <cp:lastModifiedBy>farhad</cp:lastModifiedBy>
  <dcterms:modified xsi:type="dcterms:W3CDTF">2012-01-03T10:32:59Z</dcterms:modified>
  <cp:revision>23</cp:revision>
  <dc:subject/>
  <dc:title>Dissertation Propos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